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A650E-62C3-404F-860D-DFB6DDF28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is set of relationships for me was discovering a treasure right under my no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CA1B0-5DBE-4EAD-89BB-FCBF0FE25AC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A1F-DC83-436B-93FE-0CA0EF00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53C-DEC6-481B-AA27-705140D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365-02F2-4779-AE57-359607EC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7B4-1820-4B6D-B53A-A12B9C41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D9F-C27D-4D06-B5C8-7AC0FEE4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72A1-1A69-4D46-A49C-C310E92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742-594C-485F-8C07-5B306924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3331-4434-409A-82DA-375AE02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E920-13C3-470D-AD5A-4F2E5DD4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C7FA-C6BD-483E-89B2-6AD14121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9D85-6F15-4261-BFFF-CC595757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808-AB09-4EAC-9154-2E418C0F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BE7A-F954-47FD-81A6-02A9D257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E236-0E97-4D24-8EBD-7D36F26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3DA-44CB-415E-9F5B-13CF4B9D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3764-7181-46B1-AC6C-8117C444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EF1-E086-4FE6-9227-6AD84490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DA3-C798-4C58-B39E-7F2AA8E3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B62-B56A-4B3E-90CE-939801D0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CB7-790A-45BF-8DDC-1AB21DA8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FA8-26FF-40D3-A83B-E0BE6C90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0C6-CF47-468A-B41B-3A0D81A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013-0CEB-4C79-BF2E-2D5E257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34B-F080-45CA-A960-41C284C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619D-E8FC-460F-B5E1-1B95EC680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E2B6-1C20-4D94-B999-F7B3B733E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iki.esipfed.org/index.php/Air_Quality_Work_Group" TargetMode="External"/><Relationship Id="rId3" Type="http://schemas.openxmlformats.org/officeDocument/2006/relationships/hyperlink" Target="http://wiki.esipfed.org/index.php/Air_Quality_Work_Group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38862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ir Quality Work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1904760" cy="550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920" y="3657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arth Science Information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9144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SIP Air Quality Work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role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ty Information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24680" y="51055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.esipfed.org/index.php/Air_Quality_Work_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380880"/>
            <a:ext cx="907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0046"/>
                </a:solidFill>
                <a:latin typeface="Verdana"/>
              </a:rPr>
              <a:t>ESIP Air Quality Workgroup</a:t>
            </a:r>
            <a:r>
              <a:rPr b="0" lang="en-US" sz="1600" spc="-1" strike="noStrike">
                <a:solidFill>
                  <a:srgbClr val="460046"/>
                </a:solidFill>
                <a:latin typeface="Verdan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460046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Formerly known as the ESIP AQ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855800"/>
            <a:ext cx="8458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objective of the ESIP Air Quality Workgroup is to connect air quality data consumers with the providers of those data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nging people and ideas together on how to deliver ES data to AQ researchers, managers and oth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ilitate and demonstrate the information flow among data providers to air quality consumer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2590920"/>
            <a:ext cx="4800600" cy="916920"/>
          </a:xfrm>
          <a:prstGeom prst="rect">
            <a:avLst/>
          </a:prstGeom>
          <a:solidFill>
            <a:srgbClr val="ffff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versation is king. Content is just something to talk abou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Cory Docto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590920"/>
            <a:ext cx="6340680" cy="1434600"/>
          </a:xfrm>
          <a:prstGeom prst="rect">
            <a:avLst/>
          </a:prstGeom>
          <a:solidFill>
            <a:srgbClr val="ffff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munities of Practice are groups of people who interact about a common activity of interest with the objective of exchanging information, collaborating and learning how to improve that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ased on definition by Etienne We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63737E-006 L 3.33333E-006 -0.42183 E">
                                      <p:cBhvr>
                                        <p:cTn id="1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63737E-006 L 3.33333E-006 -0.42183 E">
                                      <p:cBhvr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19240" y="403848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93480" y="4255920"/>
            <a:ext cx="1652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GC OWS test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 pi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A Data Su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213372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als / Cat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480" y="24624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SA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00" y="3370320"/>
            <a:ext cx="21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PA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00" y="525780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AA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720" y="548640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 Quality Forecasting (Fine, NESD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GDC (Haberman, Kozi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zard Mapping System (Ruminsk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000" y="457200"/>
            <a:ext cx="35866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SoN (Friedl, Mo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RAP (Ambrosia, Sulliv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DAC (Morain, Benedict, Hudspe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ITS (Di, Ya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Q Web Infrastructure (Husar, Fal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(Lindsay, Mai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ovanni (GSFC – Kemp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ISIONS (Fried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D-AQS (Hoffman, Engel-Cox, Pra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S for BlueskyRAINS (Sullivan, Raff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ra in AQ Forecasting (McHen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EWS/TSS (Shankar, McCl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ST (Mo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ITS (Fal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sor Web Architecture &amp; Demo (Mand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8920" y="3598920"/>
            <a:ext cx="3547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MI (Young, Kea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 (Young, Washburn, Lyon, Fol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NOW (Wayland, Dicker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AQPS (Scheffe, Frank, Dimmick, Solo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A (Szyk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AP (Kea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ote Sensing Gateway (Paulson, Wal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cience Connector (Kapuscinsk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7000" y="609480"/>
            <a:ext cx="2593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Fed (Hus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data (Domenico, Ramamurth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E (Ambrosia, Sulliv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ovanni (Leptoukh, Pra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ITS (D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SG (Paul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ISGEI (Fal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EWS (McCl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2480" y="6095880"/>
            <a:ext cx="30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est Service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9440" y="6324480"/>
            <a:ext cx="2067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esky (Larkin, Goodr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35760" y="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Arial"/>
              </a:rPr>
              <a:t>The Air Quality Web Landsca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not comprehen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7600" y="38088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7720" y="2362320"/>
            <a:ext cx="306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 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th Information Exchange (ES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th Observation Portal (GE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patial One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cience Connector (E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Change Master Directory (GCM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HO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AD (NS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2120" y="60958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2040" y="6324480"/>
            <a:ext cx="10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A/KM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OS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640" y="51814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4120" y="5410080"/>
            <a:ext cx="30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ra in AQ Forecasting (Lamb, Vaugh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mont (Poir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280" y="85320"/>
            <a:ext cx="907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0046"/>
                </a:solidFill>
                <a:latin typeface="Verdana"/>
              </a:rPr>
              <a:t>ESIP Air Quality Workgroup</a:t>
            </a:r>
            <a:r>
              <a:rPr b="0" lang="en-US" sz="1600" spc="-1" strike="noStrike">
                <a:solidFill>
                  <a:srgbClr val="46004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193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2070000"/>
            <a:ext cx="30492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994040"/>
            <a:ext cx="152280" cy="22860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298600"/>
            <a:ext cx="152280" cy="22860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2222640"/>
            <a:ext cx="30456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298600"/>
            <a:ext cx="304920" cy="152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298600"/>
            <a:ext cx="30492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222640"/>
            <a:ext cx="457200" cy="30456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0700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57600" y="2298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2298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145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374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146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374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689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7720" y="1689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4160" y="2079720"/>
            <a:ext cx="2438280" cy="28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120" y="2079720"/>
            <a:ext cx="222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Q Workgroup brings together groups and helps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 build </a:t>
            </a: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links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mong them in order to achieve an effective use of data in decision-making that could not be achieved by any organization acting on its ow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2603520"/>
            <a:ext cx="152640" cy="228600"/>
          </a:xfrm>
          <a:prstGeom prst="flowChartMagneticDisk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33920" y="237456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365640"/>
            <a:ext cx="152640" cy="22860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670200"/>
            <a:ext cx="152280" cy="22860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3594240"/>
            <a:ext cx="304920" cy="152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670200"/>
            <a:ext cx="30492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670200"/>
            <a:ext cx="30456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3594240"/>
            <a:ext cx="457200" cy="304560"/>
          </a:xfrm>
          <a:prstGeom prst="flowChart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441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81280" y="3670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6702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746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746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3060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1400" y="30607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57040" y="2035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6920" y="3289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6560" y="435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9240" y="4203720"/>
            <a:ext cx="30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91440" y="2013120"/>
            <a:ext cx="243828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67400" y="2013120"/>
            <a:ext cx="22258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Verdana"/>
              </a:rPr>
              <a:t>AQ Workgroup aids in </a:t>
            </a:r>
            <a:r>
              <a:rPr b="1" i="1" lang="en-US" sz="1500" spc="-1" strike="noStrike" u="sng">
                <a:solidFill>
                  <a:srgbClr val="cc0000"/>
                </a:solidFill>
                <a:uFillTx/>
                <a:latin typeface="Verdana"/>
              </a:rPr>
              <a:t>reuse</a:t>
            </a:r>
            <a:r>
              <a:rPr b="0" lang="en-US" sz="1500" spc="-1" strike="noStrike">
                <a:solidFill>
                  <a:srgbClr val="cc0000"/>
                </a:solidFill>
                <a:latin typeface="Verdana"/>
              </a:rPr>
              <a:t> of data, processing tools and other services so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that projects, programs and agencies avoid the end-to-end burden of developing those capabilities or having to create the connections themselv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3440" y="1689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30607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590920"/>
            <a:ext cx="6340680" cy="1191240"/>
          </a:xfrm>
          <a:prstGeom prst="rect">
            <a:avLst/>
          </a:prstGeom>
          <a:solidFill>
            <a:srgbClr val="ffff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re is no one specific Internet or multiple Internets; it is a vast, shifting network connecting devices dynamically….No one entity owns it or controls 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overner et al., “Web 2.0 Architectur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63737E-006 L 3.33333E-006 -0.42183 E">
                                      <p:cBhvr>
                                        <p:cTn id="4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nt Examples related to Proposal Respo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P AQ Workgroup should not serve as PI or co-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provide the framework or environment in which the PI, co-PIs and collaborators work among themselves and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Process Example: Response to recent GEO C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regular interaction in the AQ Workgroup, two groups preparing an AQ application proposal for India became aware of their respective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ways to combine efforts into single proposal that was more responsive to the CFP and that enhanced each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aboration in the US also led to discovery of collaborations in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50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ow do we do that kind of discovery, identification, acknowledgement and collaboration with data and other services within an information infrastru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7"/>
          <p:cNvSpPr/>
          <p:nvPr/>
        </p:nvSpPr>
        <p:spPr>
          <a:xfrm>
            <a:off x="3276720" y="228600"/>
            <a:ext cx="34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0"/>
          <p:cNvGrpSpPr/>
          <p:nvPr/>
        </p:nvGrpSpPr>
        <p:grpSpPr>
          <a:xfrm>
            <a:off x="990720" y="990720"/>
            <a:ext cx="7696080" cy="5638680"/>
            <a:chOff x="990720" y="990720"/>
            <a:chExt cx="7696080" cy="5638680"/>
          </a:xfrm>
        </p:grpSpPr>
        <p:grpSp>
          <p:nvGrpSpPr>
            <p:cNvPr id="167" name="Group 37"/>
            <p:cNvGrpSpPr/>
            <p:nvPr/>
          </p:nvGrpSpPr>
          <p:grpSpPr>
            <a:xfrm>
              <a:off x="990720" y="990720"/>
              <a:ext cx="7696080" cy="5638680"/>
              <a:chOff x="990720" y="990720"/>
              <a:chExt cx="7696080" cy="5638680"/>
            </a:xfrm>
          </p:grpSpPr>
          <p:sp>
            <p:nvSpPr>
              <p:cNvPr id="168" name="Rectangle 23"/>
              <p:cNvSpPr/>
              <p:nvPr/>
            </p:nvSpPr>
            <p:spPr>
              <a:xfrm>
                <a:off x="4495680" y="990720"/>
                <a:ext cx="4191120" cy="1523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990720" y="5029200"/>
                <a:ext cx="3809880" cy="1600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23"/>
              <p:cNvSpPr/>
              <p:nvPr/>
            </p:nvSpPr>
            <p:spPr>
              <a:xfrm>
                <a:off x="3962520" y="1523880"/>
                <a:ext cx="4724280" cy="5105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39"/>
              <p:cNvSpPr/>
              <p:nvPr/>
            </p:nvSpPr>
            <p:spPr>
              <a:xfrm>
                <a:off x="4629240" y="990720"/>
                <a:ext cx="3905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egistered Community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8"/>
            <p:cNvGrpSpPr/>
            <p:nvPr/>
          </p:nvGrpSpPr>
          <p:grpSpPr>
            <a:xfrm>
              <a:off x="4191120" y="1676520"/>
              <a:ext cx="4343400" cy="1066680"/>
              <a:chOff x="4191120" y="1676520"/>
              <a:chExt cx="4343400" cy="1066680"/>
            </a:xfrm>
          </p:grpSpPr>
          <p:sp>
            <p:nvSpPr>
              <p:cNvPr id="173" name="Rounded Rectangle 57"/>
              <p:cNvSpPr/>
              <p:nvPr/>
            </p:nvSpPr>
            <p:spPr>
              <a:xfrm>
                <a:off x="4191120" y="1676520"/>
                <a:ext cx="43434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9bed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4489560" y="1981080"/>
                <a:ext cx="14619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Communit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or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6470640" y="19810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lient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13"/>
              <p:cNvSpPr/>
              <p:nvPr/>
            </p:nvSpPr>
            <p:spPr>
              <a:xfrm>
                <a:off x="7464960" y="1685880"/>
                <a:ext cx="99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lient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9"/>
            <p:cNvGrpSpPr/>
            <p:nvPr/>
          </p:nvGrpSpPr>
          <p:grpSpPr>
            <a:xfrm>
              <a:off x="4191120" y="2971800"/>
              <a:ext cx="4343400" cy="1981080"/>
              <a:chOff x="4191120" y="2971800"/>
              <a:chExt cx="4343400" cy="1981080"/>
            </a:xfrm>
          </p:grpSpPr>
          <p:sp>
            <p:nvSpPr>
              <p:cNvPr id="178" name="Rounded Rectangle 58"/>
              <p:cNvSpPr/>
              <p:nvPr/>
            </p:nvSpPr>
            <p:spPr>
              <a:xfrm>
                <a:off x="4191120" y="2971800"/>
                <a:ext cx="4343400" cy="1981080"/>
              </a:xfrm>
              <a:prstGeom prst="roundRect">
                <a:avLst>
                  <a:gd name="adj" fmla="val 16667"/>
                </a:avLst>
              </a:prstGeom>
              <a:solidFill>
                <a:srgbClr val="78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7"/>
              <p:cNvSpPr/>
              <p:nvPr/>
            </p:nvSpPr>
            <p:spPr>
              <a:xfrm>
                <a:off x="6303960" y="3044520"/>
                <a:ext cx="195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Business Pro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"/>
              <p:cNvSpPr/>
              <p:nvPr/>
            </p:nvSpPr>
            <p:spPr>
              <a:xfrm>
                <a:off x="44895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Commun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atalog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44895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le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"/>
              <p:cNvSpPr/>
              <p:nvPr/>
            </p:nvSpPr>
            <p:spPr>
              <a:xfrm>
                <a:off x="65469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orkfl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anag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65469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ces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40"/>
            <p:cNvGrpSpPr/>
            <p:nvPr/>
          </p:nvGrpSpPr>
          <p:grpSpPr>
            <a:xfrm>
              <a:off x="1447920" y="5181840"/>
              <a:ext cx="7086600" cy="1295280"/>
              <a:chOff x="1447920" y="5181840"/>
              <a:chExt cx="7086600" cy="1295280"/>
            </a:xfrm>
          </p:grpSpPr>
          <p:sp>
            <p:nvSpPr>
              <p:cNvPr id="185" name="Rounded Rectangle 59"/>
              <p:cNvSpPr/>
              <p:nvPr/>
            </p:nvSpPr>
            <p:spPr>
              <a:xfrm>
                <a:off x="1447920" y="5181840"/>
                <a:ext cx="708660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38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7346160" y="5229360"/>
                <a:ext cx="111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c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175248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GEONETCa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3315240" y="5562720"/>
                <a:ext cx="152388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duct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49532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nsor W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9"/>
              <p:cNvSpPr/>
              <p:nvPr/>
            </p:nvSpPr>
            <p:spPr>
              <a:xfrm>
                <a:off x="65534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odel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36"/>
          <p:cNvGrpSpPr/>
          <p:nvPr/>
        </p:nvGrpSpPr>
        <p:grpSpPr>
          <a:xfrm>
            <a:off x="380880" y="914400"/>
            <a:ext cx="4038840" cy="3962520"/>
            <a:chOff x="380880" y="914400"/>
            <a:chExt cx="4038840" cy="3962520"/>
          </a:xfrm>
        </p:grpSpPr>
        <p:sp>
          <p:nvSpPr>
            <p:cNvPr id="192" name="Rounded Rectangle 96"/>
            <p:cNvSpPr/>
            <p:nvPr/>
          </p:nvSpPr>
          <p:spPr>
            <a:xfrm>
              <a:off x="380880" y="990360"/>
              <a:ext cx="3429360" cy="3886560"/>
            </a:xfrm>
            <a:custGeom>
              <a:avLst/>
              <a:gdLst>
                <a:gd name="textAreaLeft" fmla="*/ 167400 w 3429360"/>
                <a:gd name="textAreaRight" fmla="*/ 3261960 w 3429360"/>
                <a:gd name="textAreaTop" fmla="*/ 167400 h 3886560"/>
                <a:gd name="textAreaBottom" fmla="*/ 3719160 h 3886560"/>
              </a:gdLst>
              <a:ahLst/>
              <a:rect l="textAreaLeft" t="textAreaTop" r="textAreaRight" b="textAreaBottom"/>
              <a:pathLst>
                <a:path w="21600" h="24479">
                  <a:moveTo>
                    <a:pt x="3600" y="0"/>
                  </a:moveTo>
                  <a:arcTo wR="3600" hR="3600" stAng="16200000" swAng="-5400000"/>
                  <a:lnTo>
                    <a:pt x="0" y="20879"/>
                  </a:lnTo>
                  <a:arcTo wR="3600" hR="3600" stAng="10800000" swAng="-5400000"/>
                  <a:lnTo>
                    <a:pt x="18000" y="24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2209680" y="3362400"/>
              <a:ext cx="1447920" cy="600120"/>
            </a:xfrm>
            <a:prstGeom prst="rect">
              <a:avLst/>
            </a:prstGeom>
            <a:solidFill>
              <a:srgbClr val="789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ing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>
              <a:off x="2209680" y="1942920"/>
              <a:ext cx="1440000" cy="64764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eb Port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4"/>
            <p:cNvSpPr/>
            <p:nvPr/>
          </p:nvSpPr>
          <p:spPr>
            <a:xfrm>
              <a:off x="610560" y="1029960"/>
              <a:ext cx="232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  <a:ea typeface="ＭＳ Ｐゴシック"/>
                </a:rPr>
                <a:t>GEOSS Comm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  <a:ea typeface="ＭＳ Ｐゴシック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72"/>
            <p:cNvGrpSpPr/>
            <p:nvPr/>
          </p:nvGrpSpPr>
          <p:grpSpPr>
            <a:xfrm>
              <a:off x="609480" y="2171520"/>
              <a:ext cx="1523880" cy="2552760"/>
              <a:chOff x="609480" y="2171520"/>
              <a:chExt cx="1523880" cy="2552760"/>
            </a:xfrm>
          </p:grpSpPr>
          <p:sp>
            <p:nvSpPr>
              <p:cNvPr id="197" name="AutoShape 4"/>
              <p:cNvSpPr/>
              <p:nvPr/>
            </p:nvSpPr>
            <p:spPr>
              <a:xfrm>
                <a:off x="609480" y="2171520"/>
                <a:ext cx="1523880" cy="2552760"/>
              </a:xfrm>
              <a:custGeom>
                <a:avLst/>
                <a:gdLst>
                  <a:gd name="textAreaLeft" fmla="*/ 42840 w 1523880"/>
                  <a:gd name="textAreaRight" fmla="*/ 1481040 w 1523880"/>
                  <a:gd name="textAreaTop" fmla="*/ 42840 h 2552760"/>
                  <a:gd name="textAreaBottom" fmla="*/ 2509920 h 2552760"/>
                </a:gdLst>
                <a:ahLst/>
                <a:rect l="textAreaLeft" t="textAreaTop" r="textAreaRight" b="textAreaBottom"/>
                <a:pathLst>
                  <a:path w="21600" h="36180">
                    <a:moveTo>
                      <a:pt x="2083" y="0"/>
                    </a:moveTo>
                    <a:arcTo wR="2083" hR="2083" stAng="16200000" swAng="-5400000"/>
                    <a:lnTo>
                      <a:pt x="0" y="34097"/>
                    </a:lnTo>
                    <a:arcTo wR="2083" hR="2083" stAng="10800000" swAng="-5400000"/>
                    <a:lnTo>
                      <a:pt x="19517" y="36180"/>
                    </a:lnTo>
                    <a:arcTo wR="2083" hR="2083" stAng="5400000" swAng="-5400000"/>
                    <a:lnTo>
                      <a:pt x="21600" y="2083"/>
                    </a:lnTo>
                    <a:arcTo wR="2083" hR="2083" stAng="0" swAng="-5400000"/>
                    <a:close/>
                  </a:path>
                </a:pathLst>
              </a:custGeom>
              <a:solidFill>
                <a:srgbClr val="76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719640" y="2552400"/>
                <a:ext cx="1288440" cy="4953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mponent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&amp; 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717480" y="3124080"/>
                <a:ext cx="1276200" cy="4572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andards 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teropera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66"/>
              <p:cNvSpPr/>
              <p:nvPr/>
            </p:nvSpPr>
            <p:spPr>
              <a:xfrm>
                <a:off x="723600" y="3657600"/>
                <a:ext cx="1276200" cy="4093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Best Pract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ik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67"/>
              <p:cNvSpPr/>
              <p:nvPr/>
            </p:nvSpPr>
            <p:spPr>
              <a:xfrm>
                <a:off x="723600" y="4114800"/>
                <a:ext cx="1276200" cy="4809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User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85"/>
              <p:cNvSpPr/>
              <p:nvPr/>
            </p:nvSpPr>
            <p:spPr>
              <a:xfrm>
                <a:off x="761760" y="2201400"/>
                <a:ext cx="11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egistr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Rectangle 40"/>
            <p:cNvSpPr/>
            <p:nvPr/>
          </p:nvSpPr>
          <p:spPr>
            <a:xfrm>
              <a:off x="3200400" y="914400"/>
              <a:ext cx="1219320" cy="55728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in G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eb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48840"/>
            <a:ext cx="56102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itecture Implementation Pilot Augmenting G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SS Architecture Implementation Pi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562360" cy="3879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15520" y="31240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olving 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514600"/>
            <a:ext cx="685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52320" y="2743200"/>
            <a:ext cx="12193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57800" y="2133360"/>
            <a:ext cx="1295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28600" y="3240000"/>
            <a:ext cx="3733920" cy="361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86480" y="181296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CALP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W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6765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905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Get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733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12952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m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rcRect l="10445" t="32302" r="44874" b="1244"/>
          <a:stretch/>
        </p:blipFill>
        <p:spPr>
          <a:xfrm>
            <a:off x="2666880" y="3827520"/>
            <a:ext cx="46720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2590920" y="6248520"/>
            <a:ext cx="4572000" cy="380880"/>
          </a:xfrm>
          <a:prstGeom prst="ellipse">
            <a:avLst/>
          </a:prstGeom>
          <a:solidFill>
            <a:srgbClr val="ffff9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4.91329E-006 L -0.10799 -0.01156 E">
                                      <p:cBhvr>
                                        <p:cTn id="66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21965E-006 L 0.16632 0.23353 E">
                                      <p:cBhvr>
                                        <p:cTn id="77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27746E-006 L -0.22465 0.09942 E">
                                      <p:cBhvr>
                                        <p:cTn id="88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8382E-006 L -0.08333 0.11099 E">
                                      <p:cBhvr>
                                        <p:cTn id="114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SS AIP – AQ Upfront Expec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awareness across commun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interoperability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mentary projects and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collab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understanding and use of proposed standards and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ation of intra- and inter-system data 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-level Standardization (e.g., of parameter cod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use of existing data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ata services available to more users within the air quality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quire additional data sets from other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across data services (capture data line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ing and reuse of existing resources through service-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value of existing development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of complementary data sources and components for integrated analy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understanding of GEOSS and how to contribute and us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rity and agreement on best practices, and appr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ller”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do we go nex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gage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e don’t have critical mass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mmunity-based conventions/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Implementation (defining standards is just part of the process. Implementing them hasn’t received the same att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/conformance engines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ore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ep building on previous eff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past data registration and search and in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nvey conce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everyone sees where they fit in and what’s in it f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move from abstract to tangible, get past architectur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to be something others can buil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7:32:38Z</dcterms:created>
  <dc:creator>s</dc:creator>
  <dc:description/>
  <dc:language>en-US</dc:language>
  <cp:lastModifiedBy>David McCabe</cp:lastModifiedBy>
  <dcterms:modified xsi:type="dcterms:W3CDTF">2009-07-09T17:29:51Z</dcterms:modified>
  <cp:revision>144</cp:revision>
  <dc:subject/>
  <dc:title>Slide 1</dc:title>
</cp:coreProperties>
</file>